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EF5-40EB-451E-90CB-DB83AB94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902-E99E-4A6B-9DBD-2B37575F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0C3-5FA8-4AF4-801D-61FF9BA8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DC8-3CB5-43D9-AB76-C5A55186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C102-33E3-4421-B1C8-3E19A4FC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65EF-F4B3-49BE-8945-B7EFD88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850-7A91-4FC7-9407-C88746E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6C67-D6D5-4C7E-90C1-B6FA54E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41D-0E52-451C-81FA-666465A1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652B-3F41-41BA-AF21-A110B420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E505-CE80-4664-B2DB-684B93D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F97-F7BC-415F-B83E-566FCDE5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90C0-4DE3-4080-BB5C-6DD4477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914-E587-4BA8-8FC7-1D0CC91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5D9-0E2A-4E16-B8DD-0E8B1377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60C2-FFF3-43AE-B803-A783F8E9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744-E0A6-4121-947A-5B03207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02E-9AE8-4412-B21F-0C2518E2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557-61C3-4F69-BBCA-C1D8141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434-4913-4E71-9870-A9CA422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C11-5C7E-43E0-9814-C42473F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BC6-3A57-4F04-AF81-B5510B0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24B-376B-445E-A90D-18024E2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BF8-D60D-411F-B118-9514573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8C6B-56EE-40FB-8D02-3D4A6F84A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68A-7B07-45C9-BA67-9894548D3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hd.org/images/uploads/library/IndividualinHistory397019_ThemePage09_R2.pdf" TargetMode="External"/><Relationship Id="rId3" Type="http://schemas.openxmlformats.org/officeDocument/2006/relationships/hyperlink" Target="http://www.nhd.org/images/uploads/library/397015_TB09_TopicList_LR.pdf" TargetMode="External"/><Relationship Id="rId4" Type="http://schemas.openxmlformats.org/officeDocument/2006/relationships/hyperlink" Target="http://www.nationalhistoryday.org/EssentialInfo.htm" TargetMode="External"/><Relationship Id="rId5" Type="http://schemas.openxmlformats.org/officeDocument/2006/relationships/hyperlink" Target="http://www.nationalhistoryday.org/EssentialInfo.htm" TargetMode="External"/><Relationship Id="rId6" Type="http://schemas.openxmlformats.org/officeDocument/2006/relationships/hyperlink" Target="http://www.nhd.org/images/uploads/AResearchRoadmap.pdf" TargetMode="External"/><Relationship Id="rId7" Type="http://schemas.openxmlformats.org/officeDocument/2006/relationships/hyperlink" Target="http://www.nhd.org/images/uploads/AResearchRoadmap.pdf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National History Day Project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00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505640" cy="335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847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 and #2 (November 6 or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your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how your topic matches th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3 (December 1 or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, first draft (five sour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4 and #5 (December 18 or 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category s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direction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6 and #7 (January 5 or 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how your research was compl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, second draft (7-10 sour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8 (January 29 or 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 Draft #1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9 (March 19 or 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 Draft #2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0 (March 12 or 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1 (March 26 or 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feedback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Competition (Tuesday, April 7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ompetition (Saturday, April 18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Competition (June 14-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BIG proj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 points in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25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 point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25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 point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50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Competition – prizes for each categ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ompetition – on you ($7.00 registration due no later than 4/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st theme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nhd.org/images/uploads/library/IndividualinHistory397019_ThemePage09_R2.pd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ple topics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nhd.org/images/uploads/library/397015_TB09_TopicList_LR.pd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ntial Info (Questions and Answers)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www.nationalhistoryday.org/EssentialInfo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oadmap: </a:t>
            </a:r>
            <a:r>
              <a:rPr b="0" lang="en-US" sz="23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http://</a:t>
            </a:r>
            <a:r>
              <a:rPr b="0" lang="en-US" sz="23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www.nhd.org/images/uploads/AResearchRoadmap.pdf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ividual in History: Actions and Lega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biography per 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person at the right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led to a historical impact at the local, national or international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famous, infamous or unknown but the project is constructed to prove your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at people make history – history doesn’t happen to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 when select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values do they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ory needs to be told about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alents did they have or lack that uniquely made them suited for their ro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they have to overco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id they feel they needed to a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resisted them?  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you sel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limits – as long as students “move beyond biographies and description of specific people or events and demonstrate how that person’s action had an impact on history.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with your project “capture a specific moment in time in which change occurred and the role played by an individu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nge over ti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your final produ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you sel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eans just about everyone is a possible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, athletics, art, literature, military, social, economic, inventors, scientists, explorer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at you must link it with a particula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outside the box – how would history be different if this pers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ype of project are they looking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(individual onl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exhi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exhi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docu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docu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ite (individual and group combin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2971800"/>
            <a:ext cx="33526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k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these op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f working in a group, they are limited to 2 to 5 people (all of whom must be involved in resear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normal type of research proj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the research, see where it takes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 with secondary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ppendix and footnotes to dig deeper into primary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help at – The Delaware Historical Society, The Delaware State Archives, and the National Arch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 out the sources – check museums, homes, etc that have to deal with your person and contact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 out a witness (or the person themselv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rojects must ha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LEAR title that is easily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itle page (Rule 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500 word process paper research (Rule 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hose your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onducted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selected your category and created the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 how it relates to this year’s the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 (Rule 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d into primary and secondary 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have help typing paper and other written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clu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able help with project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only be set up by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prepared for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stumes (except in performance categ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pons, firearms, animals, organism, plants, etc. are prohib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5:02:14Z</dcterms:created>
  <dc:creator>Brent J. Freccia</dc:creator>
  <dc:description/>
  <dc:language>en-US</dc:language>
  <cp:lastModifiedBy>Brent J. Freccia</cp:lastModifiedBy>
  <dcterms:modified xsi:type="dcterms:W3CDTF">2008-10-12T16:54:25Z</dcterms:modified>
  <cp:revision>2</cp:revision>
  <dc:subject/>
  <dc:title>National History Day Project 2009</dc:title>
</cp:coreProperties>
</file>